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E8D0-0904-4A0F-8139-199DBD76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1078-D038-4533-AF86-7B801374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7EC5-503B-4735-8DC7-09E97B03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6407-E42A-4F3E-9175-E1885186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7D39-C0D0-4833-A958-3E74CDBA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67D0-616D-4F33-A2F1-87487772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EAF4-C30D-4FC0-B719-8994808D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3AFA-C8BC-4750-8314-34773FA3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C97B-2822-4725-98DC-D9FA1F59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91CF-E9B7-42C4-A05E-4D7A41D3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8FC9-D698-460C-8E73-BCA2AF3E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1C33-4BB6-4A69-A946-FC60F674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FE75-2818-4EE4-AA5A-1F7AD766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F25F-B4B4-4850-A50C-E6AD049A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9CAA-B6BF-4A79-A8D5-6671ADA1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4A28-A0AC-458D-B2FA-19F513FF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2116-48B1-4142-AD50-2518D212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BCEA-CFA5-4D5B-9403-410C0607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9B6C-1F8B-4BAB-8B3D-95FC4C23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483-1579-4B7D-A22F-65C39275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CA9C-DF91-4FBD-A544-B57EB764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8716-2377-4E15-8961-FDD0DFEC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8100-E336-40F5-A4B1-D4A6A81B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00B-5D13-43ED-B93D-D9D4D4D4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DA81-EED7-4B0F-8138-3749E8CB880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476C-C4B6-48E4-B44D-5A1D1C6E4D3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Hebrews and Hykso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ew Kingdom (1550-1100 B.C.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hmose became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haraoh of New King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aded and conquered other lands; expanded Egypt’s emp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est period of Egyptian 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532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s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es: Hebrew child brought up in Pharaoh’s househ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 great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ft to become a shephe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s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spoke from a burning bush, calling Moses to return to Egypt and free his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37465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s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raoh Amenhotep II at first refused to free slaves, so God sent 10 plagues on the Egypti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029200" y="2689200"/>
            <a:ext cx="3733920" cy="3719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62120" y="3200400"/>
            <a:ext cx="396216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Water turned to bloo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Fro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L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Flies/ Wild Anim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Diseased livesto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Boi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Hail and Thun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Locu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Dark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Death of firstbor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s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723920" y="159984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nhotep agreed to let Hebrews go, but changed his mind and chased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allowed Hebrews to part through Red Sea on dry land, but Pharaoh’s army drown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8006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Josep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eph’s jealous brothers sold him into slavery in Egyp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ught by Potiphar (captain of the Pharaoh’s guar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4304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Josep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iphar put Joseph in charge of everything, until P’s wife told a lie that got Joseph thrown into pri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021280" y="1371600"/>
            <a:ext cx="398952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Josep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648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eph was put in charge of pri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eph interpreted the Pharaoh’s dreams for him, telling him that a famine was co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4114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Josep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03848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raoh (Sesostris II) made Joseph h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vizi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command of Egy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eph helped store up crops, act as judge, and collected ta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33400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Josep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Joseph’s brothers came to buy food, he forgave them for mistreating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rewarded Joseph for being faith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90920" y="3200400"/>
            <a:ext cx="4238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nd of the Middle Kingdo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t years were not peace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ksos: group that attacked Egypt and took whatever they wan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rse-drawn chariot: new weapon invented by Hyksos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0" y="3505320"/>
            <a:ext cx="42670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nd of the Middle Kingdo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30 B.C.: Hyksos conquered Egypt; tried to act like Egypti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brews (Joseph’s descendants) became powerful and held important posi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ksos forced Hebrews into slavery b/c they were afraid the Hebrews would take o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nd of the Middle Kingdo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hmose (Egyptian prince) raised an army and drove out Hyksos, but did not free the Hebr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57913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3:18:15Z</dcterms:created>
  <dc:creator>erin.hendricks</dc:creator>
  <dc:description/>
  <dc:language>en-US</dc:language>
  <cp:lastModifiedBy>erin.hendricks</cp:lastModifiedBy>
  <dcterms:modified xsi:type="dcterms:W3CDTF">2011-09-19T19:37:30Z</dcterms:modified>
  <cp:revision>3</cp:revision>
  <dc:subject/>
  <dc:title>Hebrews and Hyksos</dc:title>
</cp:coreProperties>
</file>